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1E6-7418-4721-A343-EE7F5C350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B94-1ECD-4ABF-B1B3-9C9877CB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599-D18A-4D23-A786-A34C7AE8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2BE-7ACE-42BB-8F0E-FA0C4E33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10933-E74B-4171-B891-22A043C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D94E7-A321-4EEF-AF23-5789B730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6F768-2C74-4A9C-91A2-1772AA3F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C956A-8311-48B7-9582-DC90A9A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3FFAF-3CC8-4A04-90B6-A94541B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C44E6-9EF2-484E-8F29-6E60004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572D-D35A-46D0-9C43-E9E32E03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3BC41-638A-4FE6-975B-0C64AAEE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B9532-A85E-488D-BABA-2DFE5636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87E06-47AC-486F-8410-3F355B83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72B-38D8-44BC-B82E-AD5E0D58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093CF-3B02-4D2E-8347-75BA3F27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626C8-E11B-4832-AB0F-A7554416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99181-35F8-4B39-A25C-4219357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40E45-2123-4391-93B5-B062198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BED66-64A2-4AA1-B0FF-4099512D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86525-0C37-4550-8C4B-54071FCB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E449F-C730-454D-B87D-4DB9BD0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CD876-A945-46EA-BC02-D2DB6E9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9EC1D-6555-48A7-8301-769B235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038F8-21D7-4FA1-B1FD-19A8F9FD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CE3-A077-4043-91BE-341A02B2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F288F-BE86-4241-AEC3-8B9B3830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A450-843D-481B-B373-43DFE71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9E3A8-C0B6-4F91-9431-2B3EF42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FC728-86DD-499A-A4EE-3524323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B943-C533-4309-A2E0-375E0513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DB657-CAD0-4188-AC20-6BB66B81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06862-5465-47DE-8972-48B5CFC5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6D8DF-59CB-4248-9A1A-1E67AEC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8674-EE42-4EBF-8526-F8F3DEF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46D3A-48BB-4B12-9BAD-4F53D00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846-CABB-4547-90C1-F4945C0A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90AC2-8193-4225-9BBC-B49FB802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FAA07-0C3B-45DF-85A8-B743E004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276E-43C4-4DE0-88D9-CF5EB308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49D0F-96AF-4C96-8327-F04F5691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7635A-3037-4509-BBE4-829A4F2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CDF9C-D7BC-42CD-9F87-88866C0A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52DF9-6D72-4BF5-AF30-F4AB1FCC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D1461-9377-48D5-A47B-F5987437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7DF0D-85BF-4BCD-947F-04A8128A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87265-A67B-41F3-92C1-B9E0B2B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F1A-747C-4ED8-9333-E132A32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E026D-B09E-4E0F-BC64-7097EA4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A1956-7464-4CF3-8D85-FA194A9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24F62-4A30-450C-A1DA-DBE17E1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B2649-C048-4223-B578-87D5A3FB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8EBE3-C7D7-4929-8FF2-63D8CD27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388-B4B8-4484-8004-689909C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B6F-C45D-4F37-992B-DFB22C2C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FB3-50E9-4220-A82B-A62F824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403E-9B21-4C3B-BEDF-6524DC16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1D3-D090-4612-A4CB-1F775112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78C-3E68-4FC9-8453-5EF1D69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D1E-7966-43A1-AF7D-3C44AF0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BC30-49A1-40E5-B37F-22C2AAD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43AC-EAA4-42B5-91A7-30C0BCD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BC4-A249-4D14-A50B-0B976189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FADA-0E92-44E9-96C4-E9AB601E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C864-36EA-4D12-9EBB-E7A339F9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BCBC-A358-4D90-B8A6-90BE2B7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2CA6-ECAD-4EDE-8DF8-386919B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B017-8BBD-4873-B907-5C980528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30C8-43B4-4169-A5A9-53243F83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135-14F3-49E8-9688-E983A0E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CC46-F52A-45B2-A353-A145ECD4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76DB-8C2F-48A1-AB10-4511A60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0FB1-9E0C-4EA1-9362-1B9974F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9788-ECBD-49B2-9E27-9EB06E0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9E4D-F5CF-40A7-BC4B-3DF95B7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4B69-B8E8-43B1-ADDD-94899EEE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0541-80DF-4B3A-BBA3-4FB7E4AB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9D9B-DA2D-4225-BC99-86F7BB67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2362-E5BB-4C8A-9C77-396D444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D23E-6F7F-4C76-8D48-B636F666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739-F74E-449F-B51C-383C46D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B682-83CF-47A4-A3A7-626A53B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31EA-3182-4542-9180-4BC859A4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4CBB-8D4B-4100-AEC9-A66603BA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DDB9-4F43-4F2D-A33F-025B8250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1180-BDC0-49C2-99C9-C5FB89B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E268-9BA6-47CA-A2DD-9A762AF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123A-DC4A-4AE7-83C8-3B46D1A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B038-B68C-4C4C-A8D6-A287248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1F770-3143-4612-B576-10B47B82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625B-CA76-4D48-8A0D-5E3BF9C8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D3F-53B6-40AC-934F-1CE373B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DC63-C7A4-42C3-B55D-DD98811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4BB6-6308-46C3-A98D-A35C2CF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9D5E-23B8-4FDB-9320-968C866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54D1-FBAD-4740-B93A-52C63531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5767-32A9-4EF3-8032-1871532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B14B-86A9-4728-9D0C-032C5EB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86A0-CA7B-4F47-B4A0-93570DB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A6D1-DA51-4F1B-8B6A-FC5F971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F5EB-CCB3-4A1D-AFB7-4652890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4FF1-16FD-4924-AE53-6109AAF0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9D1-5C9E-4E24-B5E3-64A3CE1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CC20-53BA-4E02-81A7-C2CD07D6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188E7-C5E2-45B7-8062-558B9457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B8F3-C9F0-4A7A-ACC4-1052E30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7887-052E-4B19-8A02-3EE8E64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1EA8-473F-4116-B776-9B6B4A6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A11A-2DFC-4315-812E-128337D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DB85D-94FB-4E43-A378-EDC7CC2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2B2D5-69B7-41ED-A5CF-1D5BB89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6CA9-576D-4BD0-8B12-366EA6B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7EB2-0B05-45A6-A3E9-D67D3D3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1A1-70E3-4863-86CC-17BE155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B7E6-823F-4A3C-BC8C-A6CA0C5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1323-6FB0-4BFA-A740-5754A42C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B4B5-EDB6-4D3E-B9EA-D0934905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5E71-1935-48A8-B552-99FA65D2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8DC09-F216-4388-B9D6-F7F299D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7B86A-1B88-4BA2-9E48-D4D330E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F5062-1F52-4B0F-832B-0C0021E8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2F32-DFD4-4850-9744-F574C50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0F19-7C09-45A7-8FAC-5D87060B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7078-3E88-4B97-835F-E8A5070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C37-7772-4054-BD9C-228048B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0695-4AC3-4B0E-A58A-E03C8DF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0788-B2CF-47B5-B564-6AC96A0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C1700-607B-46A5-8894-CD4C44E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71CC-E20B-4E39-9E47-8B030BA1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6727-A76E-4193-9881-73682B1F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B3D5-C9EE-406E-945F-4CD28314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DE72-3290-4938-A203-00676A97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0932-EE37-41D3-A369-2C3A550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8093D-3575-4118-92D8-3280451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79FB-139F-4AAB-93A6-607D6E4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0D3-BCE2-4E5D-9A90-9EA98F43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FABA-698B-4D3C-BBFF-631A6E8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AAC40-FF09-4592-AFA4-2FAD54E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15E1F-9426-498F-AA57-9112FA6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3E75B-B8FB-4927-892E-201A0F7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3621-667C-458A-B39F-CD6BD83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5479-231C-4E00-A8E4-023CA9A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F5DE-E2F4-4B5E-9A81-317BEB3A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18863-1B8C-4DEA-9C67-1A066B69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6CD62-7C7D-4EB9-A80D-72CA4798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BA3F9-90FF-4252-8290-129064C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CA6C-6F7D-4161-9606-3B73413E1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E832-5D7C-4A48-AB2E-D1D1187EF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B61-5705-42C4-9480-8B6157933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C6B-3E97-4FA6-96B5-B3EC6924B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1E6B-E572-4BD6-B3A3-CD2683571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C083-396B-4CA7-BB36-6E45F435F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61B-88E6-4882-AB4F-1DCE65CBE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21F-671F-4622-8C19-1893D7662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7F9-B5CD-4D70-94EC-6F63AB24F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F20-AC33-4F8C-8C73-CAED289DA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316-B1BD-46EC-A642-CC7EA307F5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475-EE4E-471C-946C-20EAC1D87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ACOL VIRTUAL SCHOOL SYMPOSIU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NOVEMBER 15, 201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33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102"/>
                </a:solidFill>
                <a:latin typeface="Georgia"/>
              </a:rPr>
              <a:t>Online on the Frontline:</a:t>
            </a:r>
            <a:br>
              <a:rPr sz="4000"/>
            </a:br>
            <a:br>
              <a:rPr sz="1100"/>
            </a:br>
            <a:r>
              <a:rPr b="0" i="1" lang="en-US" sz="3600" spc="-1" strike="noStrike">
                <a:solidFill>
                  <a:srgbClr val="be2102"/>
                </a:solidFill>
                <a:latin typeface="Georgia"/>
              </a:rPr>
              <a:t>Successfully Launching an Online Program in a Public School Distric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BU Final Logo.jpg"/>
          <p:cNvPicPr/>
          <p:nvPr/>
        </p:nvPicPr>
        <p:blipFill>
          <a:blip r:embed="rId1"/>
          <a:stretch/>
        </p:blipFill>
        <p:spPr>
          <a:xfrm>
            <a:off x="5715000" y="304920"/>
            <a:ext cx="2570040" cy="1904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BVSD logo and promise 4x2.jpg"/>
          <p:cNvPicPr/>
          <p:nvPr/>
        </p:nvPicPr>
        <p:blipFill>
          <a:blip r:embed="rId2"/>
          <a:stretch/>
        </p:blipFill>
        <p:spPr>
          <a:xfrm>
            <a:off x="685800" y="754200"/>
            <a:ext cx="256068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Building an Online Culture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6:  Think Grassroots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990720" y="2819520"/>
            <a:ext cx="723888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 bold, we’re experimenting wi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mething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on’t promise that this is the most ama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ng ever, it jus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elebrate success s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ep public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alk about it in every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 your parent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Define Your District Needs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7:  Decide on &amp; focus on one main area before expand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990720" y="37339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tain input about direction of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gramming to decide if focus should be credit recovery, blended model, hybrid model regular semester courses, or full onlin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Details are Important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8:  Include others in your process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990720" y="3112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keholder Group: Curriculum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, Counselors, IT (many facets), Special Education, Enrollment office, Principals, Registrars, 504 Office, Teachers, Board of Education, Business Services, Cabinet and Commun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8384"/>
                </a:solidFill>
                <a:latin typeface="Georgia"/>
              </a:rPr>
              <a:t>Obstacles to Define Before Jumping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 9: Do not become overwhelmed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TextBox 4" descr=""/>
          <p:cNvPicPr/>
          <p:nvPr/>
        </p:nvPicPr>
        <p:blipFill>
          <a:blip r:embed="rId1"/>
          <a:stretch/>
        </p:blipFill>
        <p:spPr>
          <a:xfrm>
            <a:off x="225360" y="2809800"/>
            <a:ext cx="87724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Financial Leveraging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10: Do not anticipate a profi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990720" y="327672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ent and providers are expensiv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but give you valuable insight into being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Intended Audience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Content Placeholder 4" descr=""/>
          <p:cNvPicPr/>
          <p:nvPr/>
        </p:nvPicPr>
        <p:blipFill>
          <a:blip r:embed="rId1"/>
          <a:stretch/>
        </p:blipFill>
        <p:spPr>
          <a:xfrm>
            <a:off x="291960" y="1504800"/>
            <a:ext cx="8528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Panelists and Perspectives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Content Placeholder 3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215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Where do you start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Content Placeholder 3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168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Why start at the top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1:  Starting an online program or school is a major initiative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990720" y="3679920"/>
            <a:ext cx="7238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hip commitment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coming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How to Start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2:  Start Small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990720" y="3348000"/>
            <a:ext cx="72388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Start S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ember Key Takeaway #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ing an online program or school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 initia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8384"/>
                </a:solidFill>
                <a:latin typeface="Georgia"/>
              </a:rPr>
              <a:t>What does starting small mean?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3:  Think pilot, trial, experiment, test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990720" y="3094200"/>
            <a:ext cx="72388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ai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rse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credit recovery, AP, regular semes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number or learning n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VSD Pilot:  50 high school stud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 high schools, mainly credi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How do you get student buy-in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4:  Create excitement about the initiative, believe in your students, success will follow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990720" y="3706920"/>
            <a:ext cx="7238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basic concepts of economics, marketing and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he personal pitch, “I’ve been thinking that this would be a very good fit for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8384"/>
                </a:solidFill>
                <a:latin typeface="Georgia"/>
              </a:rPr>
              <a:t>Student Suppor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en-US" sz="4000" spc="-1" strike="noStrike">
                <a:solidFill>
                  <a:srgbClr val="be2102"/>
                </a:solidFill>
                <a:latin typeface="Georgia"/>
              </a:rPr>
              <a:t>Key Takeaway #5:  Believe in your students and let them know that you’re excited about them and they’ll respond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TextBox 4"/>
          <p:cNvSpPr/>
          <p:nvPr/>
        </p:nvSpPr>
        <p:spPr>
          <a:xfrm>
            <a:off x="990720" y="4191120"/>
            <a:ext cx="72388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ick hits, quick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get star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blic praise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6:15:26Z</dcterms:created>
  <dc:creator>kurt.levasseur</dc:creator>
  <dc:description/>
  <dc:language>en-US</dc:language>
  <cp:lastModifiedBy>jmarie.sage</cp:lastModifiedBy>
  <dcterms:modified xsi:type="dcterms:W3CDTF">2010-11-18T18:26:35Z</dcterms:modified>
  <cp:revision>55</cp:revision>
  <dc:subject/>
  <dc:title>Online on the Frontline: Successfully Launching an Online Program in a Public School District</dc:title>
</cp:coreProperties>
</file>